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ECE-D1BA-45D5-BE29-5C0FFEEC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20B-DB7C-423F-8B45-F6BEECDF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8EC-E1D8-4E0A-99C0-F639A705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D63-66CA-42E6-8959-08636556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4D7-9220-4237-8823-5F7A4C4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1A9-5096-4195-8D94-08A4E381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73C-8BC2-4D56-A3E9-223576F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379-D034-4C45-AA6B-A6AA5355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C86-0B61-4E3B-9324-BEC4FDE0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10E-C3FF-41D1-81DE-B943146C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72B-FE3A-4B44-BEC4-73D077DD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DA5-663D-4006-9FDC-C8D87AE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01FE-2BB9-425F-9FEF-A6BF249A980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Tourism Developm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Tourist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urist indust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grown rapidly over the last 50 years thanks to things like the cheaper air travel, increased leisure time and increased disposable inco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w one of the largest industries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Growth In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rowth in tourism has brought many benefits, but also has caused proble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r resorts and areas have grown rapidly, only to find that they are almost being over-run by touris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areas that have relied on a natural resource to bring in tourists are suddenly finding that the huge numbers are beginning to threaten the very environment that attracted them there in the first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0:45:37Z</dcterms:created>
  <dc:creator>Dell_02</dc:creator>
  <dc:description/>
  <dc:language>en-US</dc:language>
  <cp:lastModifiedBy>Dell_02</cp:lastModifiedBy>
  <dcterms:modified xsi:type="dcterms:W3CDTF">2011-01-27T00:47:26Z</dcterms:modified>
  <cp:revision>1</cp:revision>
  <dc:subject/>
  <dc:title>Tourism Development</dc:title>
</cp:coreProperties>
</file>